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10058400" cy="77724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929664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80880" y="4406760"/>
            <a:ext cx="929664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53672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44760" y="1142640"/>
            <a:ext cx="453672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80880" y="4406760"/>
            <a:ext cx="453672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144760" y="4406760"/>
            <a:ext cx="453672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299340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24400" y="1142640"/>
            <a:ext cx="299340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667920" y="1142640"/>
            <a:ext cx="299340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380880" y="4406760"/>
            <a:ext cx="299340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524400" y="4406760"/>
            <a:ext cx="299340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667920" y="4406760"/>
            <a:ext cx="299340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01744-A6B1-452E-BFEF-F8ADC2DF7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380880" y="1142640"/>
            <a:ext cx="9296640" cy="624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45DEF-C616-4435-B7A8-4CFD060FC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929664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0C372-F6B5-4C49-9F32-2A6305B4B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53672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44760" y="1142640"/>
            <a:ext cx="453672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2F1D6-FEDE-4198-B72A-F8E7BA375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C7FE0-1ABE-47A7-AD11-F52E95F90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533520" y="258840"/>
            <a:ext cx="8991360" cy="374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62C43-9CCD-44A5-AF11-1C2BAAE4E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53672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44760" y="1142640"/>
            <a:ext cx="453672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4406760"/>
            <a:ext cx="453672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D066F-A3A3-4BBF-991A-873C9356F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380880" y="1142640"/>
            <a:ext cx="9296640" cy="624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53672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44760" y="1142640"/>
            <a:ext cx="453672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144760" y="4406760"/>
            <a:ext cx="453672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B50CC-9DF5-42C4-A895-74160198C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53672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44760" y="1142640"/>
            <a:ext cx="453672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80880" y="4406760"/>
            <a:ext cx="929664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BFEC5-665D-43FC-B6D8-439AA19F1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929664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0880" y="4406760"/>
            <a:ext cx="929664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3254B-43C6-4C10-8B26-3AF65FF3A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53672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144760" y="1142640"/>
            <a:ext cx="453672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380880" y="4406760"/>
            <a:ext cx="453672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5144760" y="4406760"/>
            <a:ext cx="453672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88258-1AF3-4634-9709-C3F35AC33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299340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24400" y="1142640"/>
            <a:ext cx="299340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667920" y="1142640"/>
            <a:ext cx="299340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380880" y="4406760"/>
            <a:ext cx="299340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24400" y="4406760"/>
            <a:ext cx="299340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667920" y="4406760"/>
            <a:ext cx="299340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8D60D-D88D-48F5-86A3-A339A3E28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929664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53672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144760" y="1142640"/>
            <a:ext cx="453672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533520" y="258840"/>
            <a:ext cx="8991360" cy="374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53672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44760" y="1142640"/>
            <a:ext cx="453672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380880" y="4406760"/>
            <a:ext cx="453672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53672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44760" y="1142640"/>
            <a:ext cx="453672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144760" y="4406760"/>
            <a:ext cx="453672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53672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44760" y="1142640"/>
            <a:ext cx="453672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80880" y="4406760"/>
            <a:ext cx="929664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142640"/>
            <a:ext cx="929664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8000" indent="-3780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-314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25092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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760400" indent="-2523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263680" indent="-2523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263680" indent="-25236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263680" indent="-25236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066680"/>
            <a:ext cx="9296640" cy="76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9900cc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6632640"/>
            <a:ext cx="10064880" cy="1157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00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0" name=""/>
          <p:cNvGrpSpPr/>
          <p:nvPr/>
        </p:nvGrpSpPr>
        <p:grpSpPr>
          <a:xfrm>
            <a:off x="0" y="6570720"/>
            <a:ext cx="10066320" cy="1219320"/>
            <a:chOff x="0" y="6570720"/>
            <a:chExt cx="10066320" cy="1219320"/>
          </a:xfrm>
        </p:grpSpPr>
        <p:sp>
          <p:nvSpPr>
            <p:cNvPr id="41" name=""/>
            <p:cNvSpPr/>
            <p:nvPr/>
          </p:nvSpPr>
          <p:spPr>
            <a:xfrm>
              <a:off x="0" y="6570720"/>
              <a:ext cx="1009800" cy="1219320"/>
            </a:xfrm>
            <a:custGeom>
              <a:avLst/>
              <a:gdLst/>
              <a:ahLst/>
              <a:rect l="l" t="t" r="r" b="b"/>
              <a:pathLst>
                <a:path w="636" h="768">
                  <a:moveTo>
                    <a:pt x="0" y="767"/>
                  </a:moveTo>
                  <a:lnTo>
                    <a:pt x="529" y="0"/>
                  </a:lnTo>
                  <a:lnTo>
                    <a:pt x="635" y="0"/>
                  </a:lnTo>
                  <a:lnTo>
                    <a:pt x="105" y="767"/>
                  </a:lnTo>
                  <a:lnTo>
                    <a:pt x="0" y="76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755640" y="6570720"/>
              <a:ext cx="1009800" cy="1219320"/>
            </a:xfrm>
            <a:custGeom>
              <a:avLst/>
              <a:gdLst/>
              <a:ahLst/>
              <a:rect l="l" t="t" r="r" b="b"/>
              <a:pathLst>
                <a:path w="636" h="768">
                  <a:moveTo>
                    <a:pt x="0" y="767"/>
                  </a:moveTo>
                  <a:lnTo>
                    <a:pt x="529" y="0"/>
                  </a:lnTo>
                  <a:lnTo>
                    <a:pt x="635" y="0"/>
                  </a:lnTo>
                  <a:lnTo>
                    <a:pt x="105" y="767"/>
                  </a:lnTo>
                  <a:lnTo>
                    <a:pt x="0" y="76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33600" y="6570720"/>
              <a:ext cx="1008000" cy="1219320"/>
            </a:xfrm>
            <a:custGeom>
              <a:avLst/>
              <a:gdLst/>
              <a:ahLst/>
              <a:rect l="l" t="t" r="r" b="b"/>
              <a:pathLst>
                <a:path w="635" h="768">
                  <a:moveTo>
                    <a:pt x="0" y="767"/>
                  </a:moveTo>
                  <a:lnTo>
                    <a:pt x="528" y="0"/>
                  </a:lnTo>
                  <a:lnTo>
                    <a:pt x="634" y="0"/>
                  </a:lnTo>
                  <a:lnTo>
                    <a:pt x="105" y="767"/>
                  </a:lnTo>
                  <a:lnTo>
                    <a:pt x="0" y="76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309760" y="6570720"/>
              <a:ext cx="1009800" cy="1219320"/>
            </a:xfrm>
            <a:custGeom>
              <a:avLst/>
              <a:gdLst/>
              <a:ahLst/>
              <a:rect l="l" t="t" r="r" b="b"/>
              <a:pathLst>
                <a:path w="636" h="768">
                  <a:moveTo>
                    <a:pt x="0" y="767"/>
                  </a:moveTo>
                  <a:lnTo>
                    <a:pt x="529" y="0"/>
                  </a:lnTo>
                  <a:lnTo>
                    <a:pt x="635" y="0"/>
                  </a:lnTo>
                  <a:lnTo>
                    <a:pt x="105" y="767"/>
                  </a:lnTo>
                  <a:lnTo>
                    <a:pt x="0" y="76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087720" y="6570720"/>
              <a:ext cx="1008000" cy="1219320"/>
            </a:xfrm>
            <a:custGeom>
              <a:avLst/>
              <a:gdLst/>
              <a:ahLst/>
              <a:rect l="l" t="t" r="r" b="b"/>
              <a:pathLst>
                <a:path w="635" h="768">
                  <a:moveTo>
                    <a:pt x="0" y="767"/>
                  </a:moveTo>
                  <a:lnTo>
                    <a:pt x="528" y="0"/>
                  </a:lnTo>
                  <a:lnTo>
                    <a:pt x="634" y="0"/>
                  </a:lnTo>
                  <a:lnTo>
                    <a:pt x="105" y="767"/>
                  </a:lnTo>
                  <a:lnTo>
                    <a:pt x="0" y="76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863880" y="6570720"/>
              <a:ext cx="1009800" cy="1219320"/>
            </a:xfrm>
            <a:custGeom>
              <a:avLst/>
              <a:gdLst/>
              <a:ahLst/>
              <a:rect l="l" t="t" r="r" b="b"/>
              <a:pathLst>
                <a:path w="636" h="768">
                  <a:moveTo>
                    <a:pt x="0" y="767"/>
                  </a:moveTo>
                  <a:lnTo>
                    <a:pt x="529" y="0"/>
                  </a:lnTo>
                  <a:lnTo>
                    <a:pt x="635" y="0"/>
                  </a:lnTo>
                  <a:lnTo>
                    <a:pt x="105" y="767"/>
                  </a:lnTo>
                  <a:lnTo>
                    <a:pt x="0" y="76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621320" y="6570720"/>
              <a:ext cx="1008000" cy="1219320"/>
            </a:xfrm>
            <a:custGeom>
              <a:avLst/>
              <a:gdLst/>
              <a:ahLst/>
              <a:rect l="l" t="t" r="r" b="b"/>
              <a:pathLst>
                <a:path w="635" h="768">
                  <a:moveTo>
                    <a:pt x="0" y="767"/>
                  </a:moveTo>
                  <a:lnTo>
                    <a:pt x="528" y="0"/>
                  </a:lnTo>
                  <a:lnTo>
                    <a:pt x="634" y="0"/>
                  </a:lnTo>
                  <a:lnTo>
                    <a:pt x="105" y="767"/>
                  </a:lnTo>
                  <a:lnTo>
                    <a:pt x="0" y="76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96040" y="6570720"/>
              <a:ext cx="1011240" cy="1219320"/>
            </a:xfrm>
            <a:custGeom>
              <a:avLst/>
              <a:gdLst/>
              <a:ahLst/>
              <a:rect l="l" t="t" r="r" b="b"/>
              <a:pathLst>
                <a:path w="637" h="768">
                  <a:moveTo>
                    <a:pt x="0" y="767"/>
                  </a:moveTo>
                  <a:lnTo>
                    <a:pt x="530" y="0"/>
                  </a:lnTo>
                  <a:lnTo>
                    <a:pt x="636" y="0"/>
                  </a:lnTo>
                  <a:lnTo>
                    <a:pt x="106" y="767"/>
                  </a:lnTo>
                  <a:lnTo>
                    <a:pt x="0" y="76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6194520" y="6570720"/>
              <a:ext cx="1011240" cy="1219320"/>
            </a:xfrm>
            <a:custGeom>
              <a:avLst/>
              <a:gdLst/>
              <a:ahLst/>
              <a:rect l="l" t="t" r="r" b="b"/>
              <a:pathLst>
                <a:path w="637" h="768">
                  <a:moveTo>
                    <a:pt x="0" y="767"/>
                  </a:moveTo>
                  <a:lnTo>
                    <a:pt x="530" y="0"/>
                  </a:lnTo>
                  <a:lnTo>
                    <a:pt x="636" y="0"/>
                  </a:lnTo>
                  <a:lnTo>
                    <a:pt x="106" y="767"/>
                  </a:lnTo>
                  <a:lnTo>
                    <a:pt x="0" y="76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991200" y="6570720"/>
              <a:ext cx="1011240" cy="1219320"/>
            </a:xfrm>
            <a:custGeom>
              <a:avLst/>
              <a:gdLst/>
              <a:ahLst/>
              <a:rect l="l" t="t" r="r" b="b"/>
              <a:pathLst>
                <a:path w="637" h="768">
                  <a:moveTo>
                    <a:pt x="0" y="767"/>
                  </a:moveTo>
                  <a:lnTo>
                    <a:pt x="530" y="0"/>
                  </a:lnTo>
                  <a:lnTo>
                    <a:pt x="636" y="0"/>
                  </a:lnTo>
                  <a:lnTo>
                    <a:pt x="106" y="767"/>
                  </a:lnTo>
                  <a:lnTo>
                    <a:pt x="0" y="76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810560" y="6570720"/>
              <a:ext cx="1011240" cy="1219320"/>
            </a:xfrm>
            <a:custGeom>
              <a:avLst/>
              <a:gdLst/>
              <a:ahLst/>
              <a:rect l="l" t="t" r="r" b="b"/>
              <a:pathLst>
                <a:path w="637" h="768">
                  <a:moveTo>
                    <a:pt x="0" y="767"/>
                  </a:moveTo>
                  <a:lnTo>
                    <a:pt x="530" y="0"/>
                  </a:lnTo>
                  <a:lnTo>
                    <a:pt x="636" y="0"/>
                  </a:lnTo>
                  <a:lnTo>
                    <a:pt x="106" y="767"/>
                  </a:lnTo>
                  <a:lnTo>
                    <a:pt x="0" y="76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609040" y="6570720"/>
              <a:ext cx="1009800" cy="1219320"/>
            </a:xfrm>
            <a:custGeom>
              <a:avLst/>
              <a:gdLst/>
              <a:ahLst/>
              <a:rect l="l" t="t" r="r" b="b"/>
              <a:pathLst>
                <a:path w="636" h="768">
                  <a:moveTo>
                    <a:pt x="0" y="767"/>
                  </a:moveTo>
                  <a:lnTo>
                    <a:pt x="529" y="0"/>
                  </a:lnTo>
                  <a:lnTo>
                    <a:pt x="635" y="0"/>
                  </a:lnTo>
                  <a:lnTo>
                    <a:pt x="105" y="767"/>
                  </a:lnTo>
                  <a:lnTo>
                    <a:pt x="0" y="76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9434520" y="6881760"/>
              <a:ext cx="631800" cy="908280"/>
            </a:xfrm>
            <a:custGeom>
              <a:avLst/>
              <a:gdLst/>
              <a:ahLst/>
              <a:rect l="l" t="t" r="r" b="b"/>
              <a:pathLst>
                <a:path w="398" h="572">
                  <a:moveTo>
                    <a:pt x="0" y="571"/>
                  </a:moveTo>
                  <a:lnTo>
                    <a:pt x="397" y="0"/>
                  </a:lnTo>
                  <a:lnTo>
                    <a:pt x="397" y="139"/>
                  </a:lnTo>
                  <a:lnTo>
                    <a:pt x="105" y="571"/>
                  </a:lnTo>
                  <a:lnTo>
                    <a:pt x="0" y="571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4" name=""/>
          <p:cNvSpPr/>
          <p:nvPr/>
        </p:nvSpPr>
        <p:spPr>
          <a:xfrm>
            <a:off x="0" y="3129120"/>
            <a:ext cx="900000" cy="1641240"/>
          </a:xfrm>
          <a:custGeom>
            <a:avLst/>
            <a:gdLst/>
            <a:ahLst/>
            <a:rect l="l" t="t" r="r" b="b"/>
            <a:pathLst>
              <a:path w="567" h="1034">
                <a:moveTo>
                  <a:pt x="0" y="0"/>
                </a:moveTo>
                <a:lnTo>
                  <a:pt x="566" y="0"/>
                </a:lnTo>
                <a:lnTo>
                  <a:pt x="0" y="103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9900cc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54200" y="2590920"/>
            <a:ext cx="8550000" cy="12952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  <a:defRPr b="0" lang="en-US" sz="15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  <a:defRPr b="0" lang="en-US" sz="15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  <a:defRPr b="0" lang="en-US" sz="15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fld id="{7C4BA3CB-C04D-4BD5-BAE6-DF25D92A86CF}" type="slidenum">
              <a:rPr b="0" lang="en-US" sz="15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0" algn="ctr">
              <a:spcBef>
                <a:spcPts val="601"/>
              </a:spcBef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06560" algn="ctr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"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08040" algn="ctr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11320" algn="ctr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1132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1132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54200" y="2590920"/>
            <a:ext cx="8550000" cy="12952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tring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 Examp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929664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8000" indent="0"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#include &lt;stdio.h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int main () {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char lname[81], fname[81]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int  count, id_num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puts ("Enter the last name, firstname, ID number separated"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puts ("by spaces, then press Enter \n"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count = scanf ("%s%s%d", lname, fname,&amp;id_num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printf ("%d items entered: %s %s %d\n"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        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count,fname,lname,id_num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return 0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e C String Libr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929664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8000" indent="-378000">
              <a:spcBef>
                <a:spcPts val="9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tring functions are provided in an ANSI standard string librar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-3142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 this through the include fi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0">
              <a:spcBef>
                <a:spcPts val="799"/>
              </a:spcBef>
              <a:buNone/>
              <a:tabLst>
                <a:tab algn="l" pos="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#include &lt;string.h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-3142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ludes functions such 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25092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"/>
              <a:tabLst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ing length of st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25092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"/>
              <a:tabLst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pying str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25092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"/>
              <a:tabLst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atenating str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-3142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library is guaranteed to be there in any ANSI standard implementation of 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trl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929664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 fontScale="94000"/>
          </a:bodyPr>
          <a:p>
            <a:pPr marL="355320" indent="-35532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strle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returns the length of a NULL terminated character str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0"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size_t  strlen (char * str) 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5320" indent="-35532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string.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5320" indent="-35532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size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95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type defined in string.h that is equivalent to an unsigned 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5320" indent="-35532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char  *st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95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ints to a series of characters or is a character array ending with '\0'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95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ollowing code has a problem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0"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char a[5]={‘a’, ’b’, ’c’, ’d’, ’e’}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0"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strlen(a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trcp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944892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8000" indent="-378000">
              <a:spcBef>
                <a:spcPts val="9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pying a string comes in the form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spcBef>
                <a:spcPts val="7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char *strcpy (char * destination, char * source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9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 copy of </a:t>
            </a:r>
            <a:r>
              <a:rPr b="0" lang="en-US" sz="3600" spc="-1" strike="noStrike">
                <a:solidFill>
                  <a:srgbClr val="9900cc"/>
                </a:solidFill>
                <a:latin typeface="Arial"/>
              </a:rPr>
              <a:t>source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is made at </a:t>
            </a:r>
            <a:r>
              <a:rPr b="0" lang="en-US" sz="3600" spc="-1" strike="noStrike">
                <a:solidFill>
                  <a:srgbClr val="9900cc"/>
                </a:solidFill>
                <a:latin typeface="Arial"/>
              </a:rPr>
              <a:t>destin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-3142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sour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hould be NULL termina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-3142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destin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hould have enough ro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its length should be at least the size of </a:t>
            </a: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sour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9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return value also points at the </a:t>
            </a:r>
            <a:r>
              <a:rPr b="0" lang="en-US" sz="3600" spc="-1" strike="noStrike">
                <a:solidFill>
                  <a:srgbClr val="9900cc"/>
                </a:solidFill>
                <a:latin typeface="Arial"/>
              </a:rPr>
              <a:t>destination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trc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929664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8000" indent="-378000">
              <a:spcBef>
                <a:spcPts val="9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cluded in string.h and comes in the form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spcBef>
                <a:spcPts val="7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char * strcat (char * str1, char * str2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25092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"/>
              <a:tabLst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ends a copy of </a:t>
            </a: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str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the end of </a:t>
            </a: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str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25092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"/>
              <a:tabLst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pointer equal to </a:t>
            </a: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str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retur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9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nsure that </a:t>
            </a:r>
            <a:r>
              <a:rPr b="0" lang="en-US" sz="3600" spc="-1" strike="noStrike">
                <a:solidFill>
                  <a:srgbClr val="9900cc"/>
                </a:solidFill>
                <a:latin typeface="Arial"/>
              </a:rPr>
              <a:t>str1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has sufficient space for the concatenated string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-3142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ray index out of range will be the most popular bug in your C programming care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929664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lvl="1" marL="817560" indent="0"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#include &lt;string.h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#include &lt;stdio.h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int main() {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char str1[27] = "abc"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char str2[100]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printf("%d\n",strlen(str1)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strcpy(str2,str1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puts(str2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puts("\n"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strcat(str2,str1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puts(str2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ing String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929664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8000" indent="-378000">
              <a:spcBef>
                <a:spcPts val="9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 strings can be compared for equality or inequa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9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f they are equal - they are ASCII identic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9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f they are unequal the comparison function will return an int that is interpreted a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0">
              <a:spcBef>
                <a:spcPts val="799"/>
              </a:spcBef>
              <a:buNone/>
              <a:tabLst>
                <a:tab algn="l" pos="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&lt; 0  :  str1 is less than str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0">
              <a:spcBef>
                <a:spcPts val="799"/>
              </a:spcBef>
              <a:buNone/>
              <a:tabLst>
                <a:tab algn="l" pos="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0  :  str1 is equal to str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0">
              <a:spcBef>
                <a:spcPts val="799"/>
              </a:spcBef>
              <a:buNone/>
              <a:tabLst>
                <a:tab algn="l" pos="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&gt; 0  :  str1 is greater than str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trcm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929664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 fontScale="96000"/>
          </a:bodyPr>
          <a:p>
            <a:pPr marL="362880" indent="-3628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 basic comparison func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84800" indent="0"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int strcmp (char *str1, char *str2) 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07080" indent="-24084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"/>
              <a:tabLst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 an ASCII comparison one char at a time until a difference is found between two ch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89840" indent="-241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turn value is as stated bef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07080" indent="-24084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"/>
              <a:tabLst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both strings reach a '\0' at the same time, they are considered equ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84800" indent="0"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int strncmp (char *str1, char * str2, size_t n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07080" indent="-24084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"/>
              <a:tabLst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ares 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hars of 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str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str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89840" indent="-241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inues until 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hars are compared 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89840" indent="-241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nd of 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str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str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encounter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84800" indent="-301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 have 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strcasecmp(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strncasecmp(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hich do the same as above, but ignore case in lett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929664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8000" indent="-378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Example - 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strnc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int main() {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char str1[] = "The first string."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char str2[] = "The second string."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size_t  n, x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printf("%d\n", strncmp(str1,str2,4) 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printf("%d\n", strncmp(str1,str2,5) 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earching Strings (1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1005840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8000" indent="-378000">
              <a:spcBef>
                <a:spcPts val="9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re are a number of searching function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-3142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char * strchr (char * str, int ch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25092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"/>
              <a:tabLst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strch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earch </a:t>
            </a: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st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until </a:t>
            </a: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c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found or NULL character is found instea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25092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"/>
              <a:tabLst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found, a (non-NULL) pointer to </a:t>
            </a: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c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return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60400" indent="-252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wise, NULL is returned instea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-3142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can determine its location (index) in the string b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25092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"/>
              <a:tabLst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tracting the value returned from the address of the start of the st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60400" indent="-252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pointer arithmetic … more on this later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trings are Character Array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929664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8000" indent="-3780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ings in C are simply arrays of charact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-314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char   s [10]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n (10) element array that can hold a character string consisting of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9 charact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because C does not know where the end of an array is at ru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-314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convention, C uses a NULL character 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'\0'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terminate all strings in its library fun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examp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char  str [10] = {'u', 'n', 'I', 'x', '\0'}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’s the string terminator (not the size of the array) that determines the length of the str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929664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 fontScale="99000"/>
          </a:bodyPr>
          <a:p>
            <a:pPr marL="374040" indent="0"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use of strch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9280" indent="0"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#include&lt;stdio.h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9280" indent="0"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#include&lt;string.h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9280" indent="0"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int main() {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9280" indent="0"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char ch='b', buf[80]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9280" indent="0"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strcpy(buf, "The quick brown fox"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9280" indent="0"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if (strchr(buf,ch) == NUL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9280" indent="0"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printf ("The character %c was not found.\n",ch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9280" indent="0"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el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9280" indent="0"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printf ("The character %c was found at position 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%d\n", ch, strchr(buf,ch)-buf+1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9280" indent="0"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9280"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earching Strings (2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929664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8000" indent="-378000">
              <a:spcBef>
                <a:spcPts val="9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other string searching function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spcBef>
                <a:spcPts val="7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char * strstr (char * str, char * query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25092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"/>
              <a:tabLst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strst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earches </a:t>
            </a: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st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until </a:t>
            </a: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quer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found or a NULL character is found instea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25092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"/>
              <a:tabLst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found, a (non-NULL) pointer to </a:t>
            </a: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st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return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60400" indent="-252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wise, NULL is returned instea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printf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929664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lvl="1" marL="817560" indent="0">
              <a:spcBef>
                <a:spcPts val="9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3600" spc="-1" strike="noStrike">
                <a:solidFill>
                  <a:srgbClr val="9900cc"/>
                </a:solidFill>
                <a:latin typeface="Arial"/>
              </a:rPr>
              <a:t>#include &lt;stdio.h&gt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spcBef>
                <a:spcPts val="9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3600" spc="-1" strike="noStrike">
                <a:solidFill>
                  <a:srgbClr val="9900cc"/>
                </a:solidFill>
                <a:latin typeface="Arial"/>
              </a:rPr>
              <a:t>int sprintf( char *s, const char *format, …)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9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stead of printing to the stdin with printf(…), </a:t>
            </a:r>
            <a:r>
              <a:rPr b="0" lang="en-US" sz="3600" spc="-1" strike="noStrike">
                <a:solidFill>
                  <a:srgbClr val="9900cc"/>
                </a:solidFill>
                <a:latin typeface="Arial"/>
              </a:rPr>
              <a:t>sprintf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prints to a string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9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Very useful for formatting a string, or when one needs to convert integers or floating point numbers to string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9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re is also a </a:t>
            </a:r>
            <a:r>
              <a:rPr b="0" lang="en-US" sz="3600" spc="-1" strike="noStrike">
                <a:solidFill>
                  <a:srgbClr val="9900cc"/>
                </a:solidFill>
                <a:latin typeface="Arial"/>
              </a:rPr>
              <a:t>sscanf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for formatted input from a string in the same way </a:t>
            </a:r>
            <a:r>
              <a:rPr b="0" lang="en-US" sz="3600" spc="-1" strike="noStrike">
                <a:solidFill>
                  <a:srgbClr val="9900cc"/>
                </a:solidFill>
                <a:latin typeface="Arial"/>
              </a:rPr>
              <a:t>scanf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work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929664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 fontScale="93000"/>
          </a:bodyPr>
          <a:p>
            <a:pPr marL="351360" indent="0">
              <a:spcBef>
                <a:spcPts val="7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#include &lt;stdio.h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1360" indent="0">
              <a:spcBef>
                <a:spcPts val="7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#include &lt;string.h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1360" indent="0">
              <a:spcBef>
                <a:spcPts val="7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int main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1360" indent="0">
              <a:spcBef>
                <a:spcPts val="7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{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1360" indent="0">
              <a:spcBef>
                <a:spcPts val="7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char result[100]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1360" indent="0">
              <a:spcBef>
                <a:spcPts val="7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sprintf(result, "%f", (float)17/37 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1360" indent="0">
              <a:spcBef>
                <a:spcPts val="7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if (strstr(result, "45") != NUL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1360" indent="0">
              <a:spcBef>
                <a:spcPts val="7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printf("The digit sequence 45 is in 17                    </a:t>
            </a:r>
            <a:br>
              <a:rPr sz="3200"/>
            </a:b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                   divided by 37. \n"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1360" indent="0">
              <a:spcBef>
                <a:spcPts val="7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return 0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1360" indent="0">
              <a:spcBef>
                <a:spcPts val="7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verting Strings to Numbers (1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944892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8000" indent="-3780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ained in &lt;stdlib.h&gt; and are often u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int atoi (char *ptr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-314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kes a character string and converts it to an integ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-314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te space and + or - are O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-314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rts at beginning and continues until something non-convertible is encounter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exampl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Value returned</a:t>
            </a:r>
            <a:br>
              <a:rPr sz="24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"157"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57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"-1.6"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1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"+50x"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"twelve"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"x506"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verting Strings to Numbers (2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929664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 fontScale="95000"/>
          </a:bodyPr>
          <a:p>
            <a:pPr marL="358920" indent="0">
              <a:spcBef>
                <a:spcPts val="7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long atol (char *ptr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76520" indent="-298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e as 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atoi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cept it returns a lo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8920" indent="0">
              <a:spcBef>
                <a:spcPts val="7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double atof (char * str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76520" indent="-298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ndles digits 0-9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6520" indent="-298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decimal poi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6520" indent="-298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exponent indicator (e or E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6520" indent="-298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no characters are convertible a 0 is return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76520" indent="-298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lue returned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"12"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.000000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"-0.123"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0.123000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"123E+3"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3000.000000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"123.1e-5"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.0012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ccessing Individual Characte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929664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8000" indent="-3780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irst element of any array in C is at index 0.  The second is at index 1, and so on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char s[10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s[0] = 'h'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s[1] = 'i’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s[2] = '!'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s[3] = '\0'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notation can be used in all kinds of statements and expressions in C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c = s[1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if (s[0] == '-')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switch (s[1])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124080" y="2895480"/>
            <a:ext cx="533520" cy="533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657600" y="2895480"/>
            <a:ext cx="533520" cy="533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191120" y="2895480"/>
            <a:ext cx="533160" cy="533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724280" y="2895480"/>
            <a:ext cx="533520" cy="533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257800" y="2895480"/>
            <a:ext cx="533520" cy="533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791320" y="2895480"/>
            <a:ext cx="533160" cy="533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2895480"/>
            <a:ext cx="533520" cy="533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58000" y="2895480"/>
            <a:ext cx="533520" cy="533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391520" y="2895480"/>
            <a:ext cx="533160" cy="533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924680" y="2895480"/>
            <a:ext cx="533520" cy="533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200040" y="2895480"/>
            <a:ext cx="429480" cy="5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733920" y="2895480"/>
            <a:ext cx="293760" cy="5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267080" y="2895480"/>
            <a:ext cx="316440" cy="5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723920" y="2895480"/>
            <a:ext cx="542160" cy="5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\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333760" y="2895480"/>
            <a:ext cx="429480" cy="5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866920" y="2895480"/>
            <a:ext cx="429480" cy="5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00440" y="2895480"/>
            <a:ext cx="429480" cy="5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933960" y="2895480"/>
            <a:ext cx="429480" cy="5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467120" y="2895480"/>
            <a:ext cx="429480" cy="5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000640" y="2895480"/>
            <a:ext cx="429480" cy="5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733480" y="3471840"/>
            <a:ext cx="58302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s  [0] [1]  [2] [3] [4]  [5] [6]  [7] [8]  [9]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tring Litera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929664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8000" indent="-378000">
              <a:spcBef>
                <a:spcPts val="9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tring literals are given as a string quoted by double quot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-3142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printf("Long long ago."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9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itializing char array 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-3142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char s[10]="unix";  /* s[4] is '\0';                *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-3142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char s[ ]="unix";     /* s has five elements *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rinting with printf ( 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929664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 fontScale="99000"/>
          </a:bodyPr>
          <a:p>
            <a:pPr marL="374040" indent="-374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9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char str[ ] = "A message to display";</a:t>
            </a:r>
            <a:br>
              <a:rPr sz="2800"/>
            </a:b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printf ("%s\n", str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4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4040" indent="-374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printf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expects to receive a string as an additional parameter when it sees </a:t>
            </a: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%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 the format st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9280" indent="-311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be from a character arr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9280" indent="-311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be another literal str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9280" indent="-311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be from a character pointer (more on this later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9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4040" indent="-374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printf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knows how much to print out because of the NULL character at the end of all string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9280" indent="-311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it finds a 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\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it knows to sto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929664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8000" indent="0"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r str[10]="unix and c"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tf("%s", str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tf("\n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[6]='\0'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tf("%s", str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tf("\n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tf("\n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tf(str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tf("\n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[2]='%'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tf(str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tf("\n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rinting with puts( 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929664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 fontScale="98000"/>
          </a:bodyPr>
          <a:p>
            <a:pPr marL="370440" indent="-37044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</a:t>
            </a: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 pu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unction is a much simpler output function than </a:t>
            </a: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printf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or string print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0440" indent="-37044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totype of </a:t>
            </a: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pu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defined in stdio.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1000" indent="0"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int puts(const char * st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1000" indent="-307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is more efficient than 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print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32280" indent="-24588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"/>
              <a:tabLst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cause your program doesn't need to analyze the format string at run-ti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0440" indent="-37044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examp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32280" indent="0">
              <a:spcBef>
                <a:spcPts val="700"/>
              </a:spcBef>
              <a:buNone/>
              <a:tabLst>
                <a:tab algn="l" pos="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char sentence[] = "The quick brown fox\n"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32280" indent="0">
              <a:spcBef>
                <a:spcPts val="700"/>
              </a:spcBef>
              <a:buNone/>
              <a:tabLst>
                <a:tab algn="l" pos="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puts(sentence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0440" indent="-37044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nts ou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32280" indent="0">
              <a:spcBef>
                <a:spcPts val="700"/>
              </a:spcBef>
              <a:buNone/>
              <a:tabLst>
                <a:tab algn="l" pos="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The quick brown fo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putting Strings with gets( 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944892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8000" indent="-37800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gets( 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gets a line from the standard inpu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rototype is defined in stdio.h</a:t>
            </a:r>
            <a:br>
              <a:rPr sz="3200"/>
            </a:b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char *gets(char *st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-314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 is a pointer to the space where gets will store the line to, or a character arr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-314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turns NULL upon failure.  Otherwise, it returns st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char your_line[100]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printf("Enter a line:\n"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gets(your_line)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puts("Your input follows:\n"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puts(your_line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-314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can overflow your string buffer, so be careful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putting Strings with scanf ( 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929664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 fontScale="93000"/>
          </a:bodyPr>
          <a:p>
            <a:pPr marL="351360" indent="-35136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read a string includ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60320" indent="-291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%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scans up to but not including the “next” white space charac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60320" indent="-291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%</a:t>
            </a:r>
            <a:r>
              <a:rPr b="1" i="1" lang="en-US" sz="2800" spc="-1" strike="noStrike" u="sng">
                <a:solidFill>
                  <a:srgbClr val="9900cc"/>
                </a:solidFill>
                <a:uFillTx/>
                <a:latin typeface="Arial"/>
              </a:rPr>
              <a:t>n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cans the next </a:t>
            </a:r>
            <a:r>
              <a:rPr b="1" i="1" lang="en-US" sz="2800" spc="-1" strike="noStrike" u="sng">
                <a:solidFill>
                  <a:srgbClr val="9900cc"/>
                </a:solidFill>
                <a:uFillTx/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haracters or up to the next white space character, whichever comes fir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1360" indent="-35136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69280" indent="0">
              <a:spcBef>
                <a:spcPts val="700"/>
              </a:spcBef>
              <a:buNone/>
              <a:tabLst>
                <a:tab algn="l" pos="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scanf ("%s%s%s", s1, s2, s3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69280" indent="0">
              <a:spcBef>
                <a:spcPts val="700"/>
              </a:spcBef>
              <a:buNone/>
              <a:tabLst>
                <a:tab algn="l" pos="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scanf ("%2s%2s%2s", s1, s2, s3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60320" indent="-291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e:  No ampersand(&amp;) when inputting strings into character arrays!  (We’ll explain why later …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1360" indent="-35136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erence between g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60320" indent="-291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gets( 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read a 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60320" indent="-291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scanf("%s",…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ead up to the next s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5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1-23T21:17:46Z</dcterms:created>
  <dc:creator>Mike Katchabaw</dc:creator>
  <dc:description/>
  <dc:language>en-US</dc:language>
  <cp:lastModifiedBy>Bin Ma</cp:lastModifiedBy>
  <cp:lastPrinted>1998-07-26T16:47:22Z</cp:lastPrinted>
  <dcterms:modified xsi:type="dcterms:W3CDTF">2003-10-07T01:56:04Z</dcterms:modified>
  <cp:revision>1486</cp:revision>
  <dc:subject/>
  <dc:title>CS211 Slid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csd.uwo.ca/courses/CS211b</vt:lpwstr>
  </property>
  <property fmtid="{D5CDD505-2E9C-101B-9397-08002B2CF9AE}" pid="9" name="LinkColor">
    <vt:r8>16711782</vt:r8>
  </property>
  <property fmtid="{D5CDD505-2E9C-101B-9397-08002B2CF9AE}" pid="10" name="MailAddress">
    <vt:lpwstr>katchab@csd.uwo.ca</vt:lpwstr>
  </property>
  <property fmtid="{D5CDD505-2E9C-101B-9397-08002B2CF9AE}" pid="11" name="NavBtnPos">
    <vt:r8>2</vt:r8>
  </property>
  <property fmtid="{D5CDD505-2E9C-101B-9397-08002B2CF9AE}" pid="12" name="Other">
    <vt:lpwstr/>
  </property>
  <property fmtid="{D5CDD505-2E9C-101B-9397-08002B2CF9AE}" pid="13" name="OutputDir">
    <vt:lpwstr>C:\WINDOWS\DESKTOP\cs211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